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477-CF0F-45AC-8B19-77818125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0E7-3D7C-4676-A8AB-B977FCE1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7FD-380B-4E0B-A5E3-B34BBC8F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E1C-9004-4221-9B2C-4E7C2F30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2393-2DE4-4340-A597-084CFD63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D629-866D-4D9E-AAB2-8B7D8DCF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0507-916E-4875-9F9B-D8627568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A066-0A24-4C5A-A90E-E4D43481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06D1-BA18-4B69-B33E-74DECF9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19DF-7CD4-4454-8779-CF57D9D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9366-ECB9-4843-BED3-E461CE67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76E-9F22-4F1C-89E7-32971C7A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A183-1921-4D72-843F-FEDE5EA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C09-BD3A-462C-917E-2834AC85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C862-6BD8-4E91-9061-B4171F46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084-5D7B-49CF-9EA9-B7C80556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4CDB-6660-42C5-B89D-E186524A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F19C-94D0-47A8-B00F-9B7556FF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70DF-71CA-4C7A-97CE-0D0410F1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CBF5-B77E-4AC4-8349-CA158086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9360-8AD7-4431-B7FD-9F0B9EC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E4C2-322F-4DA7-A312-E7E197E7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FF3-96CC-46FE-B6D3-A9116896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B1F7-D267-46E6-B4C7-5A051545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7B65-1E18-4174-8A8E-E7C7EEB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5008-7865-446F-B798-1194EFE1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BDD4-BE04-4567-A147-95FF712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9BE5-F918-4192-8E26-41D2039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6165-973A-4BAC-85CF-F649659B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1B95-D8CF-493E-8C11-1D44A0D4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EE08-BA43-47EB-BB27-121A9AF3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8A88-6D89-453E-B736-C505E32F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E30F-034A-43F1-A97A-E0E22D3E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397-888A-476B-84F5-A2315CE9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C9AD-2913-4EFD-A7A5-1602A2E2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9001-8D6B-4382-A378-112E911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2A60-90CE-4868-A93E-A9D99C8C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189B-7A8A-482C-99BD-9BEDAB6B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4E3BC-5C36-4D2D-835F-94FBA97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DCDD-4AB0-4C0A-B87A-1AF6F244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ABEE-828E-4C72-9B40-97AEC5BC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F226-4EF2-423D-8074-97A136BE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2200-2439-4228-87E2-55170057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997-CA0B-43B0-9AC3-72FDE8CA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AA5-98F0-4F7C-8E6F-E1BEBD9B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82F-5C71-4BC7-B5D6-2C68DA4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09C-9AB4-4045-9445-3336F0B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8B5-DF55-49D3-96BC-CA38587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F270-155E-43F0-8A97-AC60C4EF0CD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7641-22F3-4782-84EF-7EADC8E6E15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A995-BB3C-4F3C-ACED-1B83C2BA73B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B07-D417-4AD7-9FFF-3EB50F68380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15640" y="134136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1828"/>
                </a:solidFill>
                <a:latin typeface="Trebuchet MS"/>
              </a:rPr>
              <a:t>Актуальные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1828"/>
                </a:solidFill>
                <a:latin typeface="Trebuchet MS"/>
              </a:rPr>
              <a:t>вопросы содержания КИМ, изменения в оцениван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335320" y="158760"/>
            <a:ext cx="6948360" cy="1468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9640" y="1557360"/>
            <a:ext cx="8064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37960" algn="just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в какой из точек, географические координаты которых указаны в таблице, 1 сентября Солнце будет находиться выше всего над горизонтом в 10 часов по солнечному времени Гринвичского меридиана. Запишите обоснование Вашего отве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237960" algn="just">
              <a:lnSpc>
                <a:spcPct val="115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23796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58920" y="4292640"/>
          <a:ext cx="6400800" cy="195876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</a:tblGrid>
              <a:tr h="39204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ческие 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° ю.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° в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° ю.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° в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° ю.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° в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27106" t="0" r="27354" b="0"/>
          <a:stretch/>
        </p:blipFill>
        <p:spPr>
          <a:xfrm>
            <a:off x="1116000" y="27000"/>
            <a:ext cx="6048360" cy="683100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4"/>
          <p:cNvSpPr/>
          <p:nvPr/>
        </p:nvSpPr>
        <p:spPr>
          <a:xfrm>
            <a:off x="4302000" y="5300640"/>
            <a:ext cx="144720" cy="144360"/>
          </a:xfrm>
          <a:prstGeom prst="ellipse">
            <a:avLst/>
          </a:prstGeom>
          <a:solidFill>
            <a:srgbClr val="f14124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Блок-схема: узел 5"/>
          <p:cNvSpPr/>
          <p:nvPr/>
        </p:nvSpPr>
        <p:spPr>
          <a:xfrm>
            <a:off x="3846600" y="5300640"/>
            <a:ext cx="144360" cy="144360"/>
          </a:xfrm>
          <a:prstGeom prst="flowChartConnector">
            <a:avLst/>
          </a:prstGeom>
          <a:solidFill>
            <a:srgbClr val="f14124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Блок-схема: узел 6"/>
          <p:cNvSpPr/>
          <p:nvPr/>
        </p:nvSpPr>
        <p:spPr>
          <a:xfrm>
            <a:off x="3846600" y="5661000"/>
            <a:ext cx="144360" cy="144360"/>
          </a:xfrm>
          <a:prstGeom prst="flowChartConnector">
            <a:avLst/>
          </a:prstGeom>
          <a:solidFill>
            <a:srgbClr val="f14124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3564000" y="494172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3728880" y="5805360"/>
            <a:ext cx="3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464328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143000" y="7318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(12 – 10) × 15° = 30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30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 в.д. – полуденный меридиан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971640" y="2060640"/>
            <a:ext cx="7056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237960" algn="just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Точка В расположена ближе к полуденному меридиану, чем точка 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1116000" y="4508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всего над горизонтом солнце будет находитьс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чке 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116000" y="3284640"/>
            <a:ext cx="669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237960" algn="just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Times New Roman"/>
              </a:rPr>
              <a:t>Точка В расположена севернее, чем точка Б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27106" t="0" r="27354" b="0"/>
          <a:stretch/>
        </p:blipFill>
        <p:spPr>
          <a:xfrm>
            <a:off x="1116000" y="27000"/>
            <a:ext cx="6048360" cy="6831000"/>
          </a:xfrm>
          <a:prstGeom prst="rect">
            <a:avLst/>
          </a:prstGeom>
          <a:ln w="0">
            <a:noFill/>
          </a:ln>
        </p:spPr>
      </p:pic>
      <p:sp>
        <p:nvSpPr>
          <p:cNvPr id="248" name="Овал 4"/>
          <p:cNvSpPr/>
          <p:nvPr/>
        </p:nvSpPr>
        <p:spPr>
          <a:xfrm>
            <a:off x="4302000" y="5300640"/>
            <a:ext cx="144720" cy="144360"/>
          </a:xfrm>
          <a:prstGeom prst="ellipse">
            <a:avLst/>
          </a:prstGeom>
          <a:solidFill>
            <a:srgbClr val="f14124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Блок-схема: узел 5"/>
          <p:cNvSpPr/>
          <p:nvPr/>
        </p:nvSpPr>
        <p:spPr>
          <a:xfrm>
            <a:off x="3846600" y="5300640"/>
            <a:ext cx="144360" cy="144360"/>
          </a:xfrm>
          <a:prstGeom prst="flowChartConnector">
            <a:avLst/>
          </a:prstGeom>
          <a:solidFill>
            <a:srgbClr val="f14124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Блок-схема: узел 6"/>
          <p:cNvSpPr/>
          <p:nvPr/>
        </p:nvSpPr>
        <p:spPr>
          <a:xfrm>
            <a:off x="3846600" y="5661000"/>
            <a:ext cx="144360" cy="144360"/>
          </a:xfrm>
          <a:prstGeom prst="flowChartConnector">
            <a:avLst/>
          </a:prstGeom>
          <a:solidFill>
            <a:srgbClr val="f14124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3564000" y="494172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3728880" y="5805360"/>
            <a:ext cx="3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64328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048040" y="73080"/>
            <a:ext cx="6949800" cy="1407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826920" y="1341000"/>
            <a:ext cx="75614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Определите географическую долготу пункта, если известно, что в 15 часов 40 минут по солнечному времени Гринвичского меридиана местное солнечное время в нём 7 часов. Запишите решение задач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488628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2"/>
          <p:cNvSpPr/>
          <p:nvPr/>
        </p:nvSpPr>
        <p:spPr>
          <a:xfrm>
            <a:off x="3708360" y="2205000"/>
            <a:ext cx="142920" cy="144360"/>
          </a:xfrm>
          <a:prstGeom prst="ellipse">
            <a:avLst/>
          </a:prstGeom>
          <a:solidFill>
            <a:srgbClr val="f14124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419640" y="2492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15 ча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40 ми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984240" y="26319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7 ча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2475000" y="1762200"/>
            <a:ext cx="6797520" cy="1450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33080" y="206028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66680" indent="-133200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66680" indent="-133200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66680" indent="-133200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1) 15 часов 40 минут - 7 часов = 8 часов 40 мину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468360" y="189000"/>
            <a:ext cx="8280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82520" algn="just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Определите географическую долготу пункта, если известно, что в 15 часов 40 минут по солнечному времени Гринвичского меридиана местное солнечное время в нём 7 часов. Запишите решение зада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680400" y="3645000"/>
            <a:ext cx="8119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2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8 часов +40 минут = 8 часов+ 40/60часа = 8часов +2/3час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539640" y="4508640"/>
            <a:ext cx="6769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82520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31828"/>
                </a:solidFill>
                <a:latin typeface="Trebuchet MS"/>
              </a:rPr>
              <a:t>2)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 (8х15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) + (2/3х15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)= 120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+10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 = 130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684360" y="5300640"/>
            <a:ext cx="6767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Ответ: 130 </a:t>
            </a:r>
            <a:r>
              <a:rPr b="1" lang="en-US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º</a:t>
            </a:r>
            <a:r>
              <a:rPr b="1" lang="ru-RU" sz="2400" spc="-1" strike="noStrike">
                <a:solidFill>
                  <a:srgbClr val="031828"/>
                </a:solidFill>
                <a:latin typeface="Times New Roman"/>
                <a:ea typeface="Calibri"/>
              </a:rPr>
              <a:t> з.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03280" y="1807920"/>
            <a:ext cx="86407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323"/>
                </a:solidFill>
                <a:latin typeface="TimesNewRoman"/>
              </a:rPr>
              <a:t>С корабля, находящегося в точке с координатам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323"/>
                </a:solidFill>
                <a:latin typeface="TimesNewRoman"/>
              </a:rPr>
              <a:t>13° с.ш. 73° з.д., поступило радиосообщение о неисправности двигател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323"/>
                </a:solidFill>
                <a:latin typeface="TimesNewRoman"/>
              </a:rPr>
              <a:t>Какое расстояние (в км) до неисправного судна пройдёт ремонтный корабль из порта Риоача (11° с.ш. 73° з.д.), если известно, что корабль будет идти строго по меридиану, а неисправное судно останется в той же точке, откуда было передано сообщение? Ответ округлите до целого числа. Запишите решение задач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9375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6754680" cy="142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1763640" y="1916280"/>
            <a:ext cx="64008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Trebuchet MS"/>
              </a:rPr>
              <a:t>Решение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Trebuchet MS"/>
              </a:rPr>
              <a:t>13-11= 2</a:t>
            </a:r>
            <a:r>
              <a:rPr b="0" lang="ru-RU" sz="2400" spc="-1" strike="noStrike">
                <a:solidFill>
                  <a:srgbClr val="101323"/>
                </a:solidFill>
                <a:latin typeface="TimesNewRoman"/>
              </a:rPr>
              <a:t> °- расстояние между кораблям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323"/>
                </a:solidFill>
                <a:latin typeface="TimesNewRoman"/>
              </a:rPr>
              <a:t> </a:t>
            </a:r>
            <a:r>
              <a:rPr b="0" lang="ru-RU" sz="2200" spc="-1" strike="noStrike">
                <a:solidFill>
                  <a:srgbClr val="101323"/>
                </a:solidFill>
                <a:latin typeface="Trebuchet MS"/>
              </a:rPr>
              <a:t>2х 111= 222 км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Trebuchet MS"/>
              </a:rPr>
              <a:t>Ответ: 222 км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50560" y="731520"/>
            <a:ext cx="8713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1323"/>
                </a:solidFill>
                <a:latin typeface="Verdana"/>
              </a:rPr>
              <a:t>Задание 32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Verdana"/>
              </a:rPr>
              <a:t>С корабля, находящегося в точке с координатами 56° с.ш. 150° в.д., поступило радиосообщение о неисправности двигателя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Verdana"/>
              </a:rPr>
              <a:t>Какое расстояние до неисправного судна пройдёт ремонтный корабль из порта Магадан (59° 30′ с.ш. 150° 50′ в .д.), если известно, что он будет идти строго по меридиану, а неисправное судно останется в той же точке, откуда было передано сообщение? Ответ округлите до целого числа. Запишите решение задач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63680" y="219240"/>
            <a:ext cx="8315280" cy="1500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826920" y="2133360"/>
            <a:ext cx="7274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1828"/>
                </a:solidFill>
                <a:latin typeface="TimesNewRoman"/>
                <a:ea typeface="Calibri"/>
              </a:rPr>
              <a:t>Изменения структуры и содержания КИМ отсутствую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15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1828"/>
                </a:solidFill>
                <a:latin typeface="TimesNewRoman"/>
                <a:ea typeface="Calibri"/>
              </a:rPr>
              <a:t>Максимальный балл за выполнение задания 4 увеличен до 2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114640" y="36360"/>
            <a:ext cx="6791400" cy="1805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55280" y="1412640"/>
            <a:ext cx="7993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абль, вышедший из порта города Порт-Хедленд с координатами 20° ю.ш. 119° в.д., доставил необходимые запчасти на неисправный сухогруз, остановившийся в Индийском океане в 446 км 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вер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 города Порт-Хедленд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 географическую широту точки, в которой находился неисправный корабль, если известно, что его местоположение после остановки не изменилось, а ремонтный корабль шёл строго по меридиану. Ответ округлите до целого числа. Запишите решение задач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340000" y="2060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Trebuchet MS"/>
              </a:rPr>
              <a:t>446 : 111= 4</a:t>
            </a:r>
            <a:r>
              <a:rPr b="0" lang="ru-RU" sz="2200" spc="-1" strike="noStrike">
                <a:solidFill>
                  <a:srgbClr val="101323"/>
                </a:solidFill>
                <a:latin typeface="Arial"/>
              </a:rPr>
              <a:t> 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Arial"/>
              </a:rPr>
              <a:t>20° ю.ш. - </a:t>
            </a:r>
            <a:r>
              <a:rPr b="0" lang="ru-RU" sz="2200" spc="-1" strike="noStrike">
                <a:solidFill>
                  <a:srgbClr val="101323"/>
                </a:solidFill>
                <a:latin typeface="Trebuchet MS"/>
              </a:rPr>
              <a:t>4</a:t>
            </a:r>
            <a:r>
              <a:rPr b="0" lang="ru-RU" sz="2200" spc="-1" strike="noStrike">
                <a:solidFill>
                  <a:srgbClr val="101323"/>
                </a:solidFill>
                <a:latin typeface="Arial"/>
              </a:rPr>
              <a:t> ° = 16 ° ю.ш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323"/>
                </a:solidFill>
                <a:latin typeface="Arial"/>
              </a:rPr>
              <a:t>Ответ: 16 ° ю.ш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67546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189160" y="36360"/>
            <a:ext cx="6613560" cy="1805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611280" y="980640"/>
            <a:ext cx="8137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спользуя данные таблицы,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определите показатель естественного прироста населения (в ‰) в 2011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. для Пермского края. При расчётах используйте показатель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среднегодовой численности населения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Запишите решение задачи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 Полученный результат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округлите до десятых долей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милл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Численность и есте­ствен­ный при­рост населения Пермского края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55640" y="3716280"/>
          <a:ext cx="7777080" cy="2266920"/>
        </p:xfrm>
        <a:graphic>
          <a:graphicData uri="http://schemas.openxmlformats.org/drawingml/2006/table">
            <a:tbl>
              <a:tblPr/>
              <a:tblGrid>
                <a:gridCol w="3476520"/>
                <a:gridCol w="1544760"/>
                <a:gridCol w="1314360"/>
                <a:gridCol w="1441440"/>
              </a:tblGrid>
              <a:tr h="3571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6368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остоянного населения на 1 январ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1 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3 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1 0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7 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632 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3 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прирост населен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, значение показателя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262240" y="133200"/>
            <a:ext cx="6765840" cy="1420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971640" y="1341360"/>
            <a:ext cx="76327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828"/>
                </a:solidFill>
                <a:latin typeface="Trebuchet MS"/>
              </a:rPr>
              <a:t>Решени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828"/>
                </a:solidFill>
                <a:latin typeface="Trebuchet MS"/>
              </a:rPr>
              <a:t>–</a:t>
            </a:r>
            <a:r>
              <a:rPr b="0" lang="ru-RU" sz="2800" spc="-1" strike="noStrike">
                <a:solidFill>
                  <a:srgbClr val="031828"/>
                </a:solidFill>
                <a:latin typeface="Trebuchet MS"/>
              </a:rPr>
              <a:t>1670 : 2 632 312 × 1000 = –0,634423275052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828"/>
                </a:solidFill>
                <a:latin typeface="Trebuchet MS"/>
              </a:rPr>
              <a:t>Ответ: –0,6‰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2189160" y="-109440"/>
            <a:ext cx="6789600" cy="18050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94920" y="907560"/>
            <a:ext cx="84978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5876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 численность населения субъектов Российской Федерации заметное влияние оказывают как естественное движение населения, так и миграции. Проанализировав данные таблицы,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определите величину миграционного прироста (убыли)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населения Пермского края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 2011 г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Запишите решение задач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198720" indent="-158760" algn="ctr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Численность и естественный прирост населения Пермского кра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198720" indent="-158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198720" indent="-158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95280" y="3819600"/>
          <a:ext cx="8137440" cy="2266920"/>
        </p:xfrm>
        <a:graphic>
          <a:graphicData uri="http://schemas.openxmlformats.org/drawingml/2006/table">
            <a:tbl>
              <a:tblPr/>
              <a:tblGrid>
                <a:gridCol w="2448000"/>
                <a:gridCol w="1800000"/>
                <a:gridCol w="1800360"/>
                <a:gridCol w="2089080"/>
              </a:tblGrid>
              <a:tr h="3214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811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остоянного населения на 1 января,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1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633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631 0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населения,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7 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2 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3 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прирост населения, человек, значение показателя з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9280" y="141300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Решение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1) 2 631 073 – 2 633 550 = –2477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2) –2477 – (–1670) = –807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31828"/>
                </a:solidFill>
                <a:latin typeface="Trebuchet MS"/>
              </a:rPr>
              <a:t>ИЛ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31828"/>
                </a:solidFill>
                <a:latin typeface="Trebuchet MS"/>
              </a:rPr>
              <a:t>В 2011 г. численность населения Пермского края уменьшилась на 2477 человек. За счёт естественной убыли произошло сокращение численности на 1670 человек. Миграционный прирост населения составил: –2477 – (–1670) = –807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2335320" y="60480"/>
            <a:ext cx="67658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116000" y="2420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1323"/>
                </a:solidFill>
                <a:latin typeface="Trebuchet MS"/>
              </a:rPr>
              <a:t>Спасибо!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255680" y="-109440"/>
            <a:ext cx="6967440" cy="1805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3928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5000"/>
              </a:lnSpc>
              <a:spcBef>
                <a:spcPts val="326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1828"/>
                </a:solidFill>
                <a:latin typeface="TimesNewRoman"/>
                <a:ea typeface="Calibri"/>
              </a:rPr>
              <a:t>В рельефе этой части материка почти нет резких колебаний высот, редки землетрясения, отсутствуют  действующие вулканы. Здесь много миллионов лет назад вертикальные _______________________(А) земной коры привели к образованию Бразильского и Гвианского плоскогорий. При этом в земной коре  образовались_______________________(Б), в которые внедрялась _______________________(В). Рельеф плоскогорий разнообразен: столовые горы чередуются с холмистыми пространствами, их сменяют невысокие массивы, изрезанные ущельями</a:t>
            </a:r>
            <a:r>
              <a:rPr b="0" lang="ru-RU" sz="1300" spc="-1" strike="noStrike">
                <a:solidFill>
                  <a:srgbClr val="031828"/>
                </a:solidFill>
                <a:latin typeface="TimesNewRoman"/>
                <a:ea typeface="Calibri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5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828"/>
                </a:solidFill>
                <a:latin typeface="TimesNewRoman"/>
                <a:ea typeface="Calibri"/>
              </a:rPr>
              <a:t>Выбирайте последовательно одно слово (словосочетание) за другим, мысленно вставляя на места пропусков слова (словосочетание) из списка в нужной форме. Обратите внимание на то, что слов (словосочетания) в списке больше, чем Вам потребуется для заполнения пропусков. Каждое слово (словосочетание) может быть использовано только один раз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5000"/>
              </a:lnSpc>
              <a:spcBef>
                <a:spcPts val="45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828"/>
                </a:solidFill>
                <a:latin typeface="TimesNewRoman"/>
                <a:ea typeface="Calibri"/>
              </a:rPr>
              <a:t>Список слов (словосочетание)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5000"/>
              </a:lnSpc>
              <a:spcBef>
                <a:spcPts val="326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31828"/>
                </a:solidFill>
                <a:latin typeface="TimesNewRoman"/>
                <a:ea typeface="Calibri"/>
              </a:rPr>
              <a:t>1) магма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5000"/>
              </a:lnSpc>
              <a:spcBef>
                <a:spcPts val="326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31828"/>
                </a:solidFill>
                <a:latin typeface="TimesNewRoman"/>
                <a:ea typeface="Calibri"/>
              </a:rPr>
              <a:t>2) движение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5000"/>
              </a:lnSpc>
              <a:spcBef>
                <a:spcPts val="326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31828"/>
                </a:solidFill>
                <a:latin typeface="TimesNewRoman"/>
                <a:ea typeface="Calibri"/>
              </a:rPr>
              <a:t>3) лава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5000"/>
              </a:lnSpc>
              <a:spcBef>
                <a:spcPts val="326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31828"/>
                </a:solidFill>
                <a:latin typeface="TimesNewRoman"/>
                <a:ea typeface="Calibri"/>
              </a:rPr>
              <a:t>4) горная порода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5000"/>
              </a:lnSpc>
              <a:spcBef>
                <a:spcPts val="326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31828"/>
                </a:solidFill>
                <a:latin typeface="TimesNewRoman"/>
                <a:ea typeface="Calibri"/>
              </a:rPr>
              <a:t>5) разлом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5000"/>
              </a:lnSpc>
              <a:spcBef>
                <a:spcPts val="326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31828"/>
                </a:solidFill>
                <a:latin typeface="TimesNewRoman"/>
                <a:ea typeface="Calibri"/>
              </a:rPr>
              <a:t>6) мантия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974960" y="36360"/>
            <a:ext cx="6967440" cy="1805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324000" y="162828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10000"/>
              </a:lnSpc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 таблицы, приведённой ниже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те доли сельскохозяйственного населения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 (людей, занятых в сельском хозяйстве, и членов их семей, находящихся на их иждивении)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бщей численности населения 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и сельского хозяйства в ВВП Замбии и Ирана.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йте вывод 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о том, в какой из этих стран сельское хозяйство играет бóльшую роль в экономике. Для обоснования своего ответа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шите необходимые числовые данные или вычислен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е показатели развития Замбии и Ирана в 2010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10000"/>
              </a:lnSpc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4360" y="4437000"/>
          <a:ext cx="7416720" cy="1262160"/>
        </p:xfrm>
        <a:graphic>
          <a:graphicData uri="http://schemas.openxmlformats.org/drawingml/2006/table">
            <a:tbl>
              <a:tblPr/>
              <a:tblGrid>
                <a:gridCol w="1162080"/>
                <a:gridCol w="1430280"/>
                <a:gridCol w="1439640"/>
                <a:gridCol w="1008000"/>
                <a:gridCol w="1151280"/>
                <a:gridCol w="1225440"/>
              </a:tblGrid>
              <a:tr h="210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енность населения, 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енность сельскохозяйственного населения, млн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раслевая структура ВВП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ьское хоз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мышл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ера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р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974960" y="36360"/>
            <a:ext cx="6967440" cy="1805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24000" y="105228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10000"/>
              </a:lnSpc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 таблицы, приведённой ниже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те доли сельскохозяйственного населения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 (людей, занятых в сельском хозяйстве, и членов их семей, находящихся на их иждивении)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бщей численности населения 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и доли сельского хозяйства в ВВП Замбии и Иран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вывод о том, в какой из этих стран сельское хозяйство играет бóльшую роль в экономике. Для обоснования своего ответа запишите необходимые числовые данные или вычислен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е показатели развития Замбии и Ирана в 2010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10000"/>
              </a:lnSpc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3716280"/>
          <a:ext cx="7775280" cy="2460600"/>
        </p:xfrm>
        <a:graphic>
          <a:graphicData uri="http://schemas.openxmlformats.org/drawingml/2006/table">
            <a:tbl>
              <a:tblPr/>
              <a:tblGrid>
                <a:gridCol w="1217520"/>
                <a:gridCol w="1500120"/>
                <a:gridCol w="1509840"/>
                <a:gridCol w="1057320"/>
                <a:gridCol w="1207800"/>
                <a:gridCol w="1282680"/>
              </a:tblGrid>
              <a:tr h="315720"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енность населения, млн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енность сельскохозяйственного населения, млн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раслевая структура ВВП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ьское хоз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ера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мб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р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611280" y="549360"/>
          <a:ext cx="8064360" cy="5688000"/>
        </p:xfrm>
        <a:graphic>
          <a:graphicData uri="http://schemas.openxmlformats.org/drawingml/2006/table">
            <a:tbl>
              <a:tblPr/>
              <a:tblGrid>
                <a:gridCol w="7272360"/>
                <a:gridCol w="792000"/>
              </a:tblGrid>
              <a:tr h="920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Содержание верного ответа и указания по оцениван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Бал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74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 ответе говорится, чт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1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доля сельскохозяйственного населения в общей численности населения в Замбии выше, чем в Иране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и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риводятся вычисления: 8,3 : 13,1 и 15,9 : 7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ИЛИ доля сельскохозяйственного населения в общей численности населения в Замбии выше, чем в Иране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и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риводятся значения: 63,4% и 21,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1974960" y="36360"/>
            <a:ext cx="696744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4000" y="105228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10000"/>
              </a:lnSpc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 таблицы, приведённой ниже, </a:t>
            </a:r>
            <a:r>
              <a:rPr b="0" lang="ru-RU" sz="18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сравни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и сельскохозяйственного населения 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(людей, занятых в сельском хозяйстве, и членов их семей, находящихся на их иждивении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й численности населения 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доли сельского хозяйства в ВВП Замбии и Ирана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Сделайте вывод о том, в какой из этих стран сельское хозяйство играет бóльшую роль в экономике</a:t>
            </a:r>
            <a:r>
              <a:rPr b="0" lang="ru-RU" sz="1800" spc="-1" strike="noStrike">
                <a:solidFill>
                  <a:srgbClr val="101323"/>
                </a:solidFill>
                <a:latin typeface="Times New Roman"/>
                <a:ea typeface="Times New Roman"/>
              </a:rPr>
              <a:t>. Для обоснования своего ответа запишите необходимые числовые данные или вычислен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е показатели развития Замбии и Ирана в 2010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10000"/>
              </a:lnSpc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4360" y="3716280"/>
          <a:ext cx="7775280" cy="2460600"/>
        </p:xfrm>
        <a:graphic>
          <a:graphicData uri="http://schemas.openxmlformats.org/drawingml/2006/table">
            <a:tbl>
              <a:tblPr/>
              <a:tblGrid>
                <a:gridCol w="1217520"/>
                <a:gridCol w="1500120"/>
                <a:gridCol w="1509840"/>
                <a:gridCol w="1172880"/>
                <a:gridCol w="1092240"/>
                <a:gridCol w="1282680"/>
              </a:tblGrid>
              <a:tr h="315720"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енность населения, млн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енность сельскохозяйственного населения, млн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раслевая структура ВВП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3260c"/>
                          </a:solidFill>
                          <a:latin typeface="Arial"/>
                          <a:ea typeface="Times New Roman"/>
                        </a:rPr>
                        <a:t>Сельское хоз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ера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мб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3260c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р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3260c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1143000" y="1479600"/>
          <a:ext cx="7101000" cy="3605040"/>
        </p:xfrm>
        <a:graphic>
          <a:graphicData uri="http://schemas.openxmlformats.org/drawingml/2006/table">
            <a:tbl>
              <a:tblPr/>
              <a:tblGrid>
                <a:gridCol w="6237360"/>
                <a:gridCol w="863640"/>
              </a:tblGrid>
              <a:tr h="4269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Содержание верного ответа и указания по оцениван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Бал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 ответе говорится, чт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2) доля сельского хозяйства в ВВП Замбии выше, чем в ВВП Ирана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и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риводятся значения: 20% и 11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3) сельское хозяйство играет бóльшую роль в экономике Замб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684360" y="1052640"/>
          <a:ext cx="7991280" cy="4767120"/>
        </p:xfrm>
        <a:graphic>
          <a:graphicData uri="http://schemas.openxmlformats.org/drawingml/2006/table">
            <a:tbl>
              <a:tblPr/>
              <a:tblGrid>
                <a:gridCol w="7054560"/>
                <a:gridCol w="936720"/>
              </a:tblGrid>
              <a:tr h="5601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Содержание верного ответа и указания по оцени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7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 ответе говорится, чт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1) доля сельскохозяйственного населения в общей численности населения в Замбии выше, чем в Иране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риводятся вычисления: 8,3 : 13,1 и 15,9 : 7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ИЛИ доля сельскохозяйственного населения в общей численности населения в Замбии выше, чем в Иране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риводятся значения: 63,4% и 21,5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2) доля сельского хозяйства в ВВП Замбии выше, чем в ВВП Ирана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NewRoman,Bold"/>
                          <a:ea typeface="Calibri"/>
                        </a:rPr>
                        <a:t>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приводятся значения: 20% и 11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3) сельское хозяйство играет бóльшую роль в экономике Замб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Ответ включает в себя все три названных выше элемен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Ответ включает в себя два (любых) из названных выше элемент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се ответы, которые не соответствуют вышеуказанным критер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NewRoman"/>
                          <a:ea typeface="Calibri"/>
                        </a:rPr>
                        <a:t>выставления оценок в 1 и 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NewRoman,Italic"/>
                          <a:ea typeface="Calibri"/>
                        </a:rPr>
                        <a:t>Максимальный балл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8T06:25:31Z</dcterms:created>
  <dc:creator>Ваш пк</dc:creator>
  <dc:description/>
  <dc:language>en-US</dc:language>
  <cp:lastModifiedBy>Школа 11</cp:lastModifiedBy>
  <dcterms:modified xsi:type="dcterms:W3CDTF">2019-02-05T05:46:26Z</dcterms:modified>
  <cp:revision>59</cp:revision>
  <dc:subject/>
  <dc:title>Презентация PowerPoint</dc:title>
</cp:coreProperties>
</file>